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3059-C6C4-4E84-9DF0-B9D6930EC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91D3-8235-4BDC-A4FC-46CB044B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328F-77DA-4B08-B7BE-36C351CB00CD}" type="slidenum">
              <a:rPr b="0" lang="en-US" sz="1200" spc="-1" strike="noStrike">
                <a:solidFill>
                  <a:srgbClr val="3161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82B-5599-4B52-BBF1-3E2FAF40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24D-6AD0-4CEC-A8E8-D933CB9D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00C5B-95B3-4883-8E75-42C25F8C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3389D-BC67-417B-94D3-EDB627F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E62E0-D2FA-415F-AE84-F4E2DB1C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29536-50C2-465A-A6AA-1E2F92FF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77A0A-6CAB-4747-97CC-A6224FA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AACFA-BD99-4871-8BA6-C9AAE319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86B65-CEF0-496A-8A76-9BDF57D0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E73CC-E1D3-4A8C-8513-B5346E62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AE026-A910-4E65-BA45-ED38BDFF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1F925-FD87-4A1D-863D-7154B53F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094-3B11-4746-9C05-8559EBE5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D81D0-B034-466C-9CA7-61B6FA22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13B0E-F591-4D23-BA84-94695F64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AAA28-4378-4F0F-A289-99BD09D7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943D3-AFAC-4DB9-A922-80776B2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B86C6-36D9-4069-84D4-FBE8DD16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BBEDE-2CA9-4552-BF22-39E5EF2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D3CCE-4E59-434E-94A0-7C7D652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60F65-1AF0-4EEE-83AF-A8FC63F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91E90-F790-48C0-8D91-CD9C1C6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0463F-72EA-4265-89DE-29C4E8B3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252-96E9-41D7-A97C-F0C75034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FC181-14B1-4E44-B925-4AA3BB31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E7296-6161-4555-8642-0D23336C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64C18-1AE4-4B3F-9FE9-FE9531A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5CA84-ED1F-4AFA-B2E0-3689773C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DDB0-7683-4811-A383-18E510FA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65AA0-BE92-4DB9-B729-BFF1503F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99551-DE8D-4ABB-B12B-3C2DF977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19F84-D1DD-4078-AB09-8ECBCA46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DFA65-3A11-4C8A-AB9F-8FE2F54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5A43F-8B9E-49BD-8601-240860E4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49C5-79E5-4768-A2B7-50E56237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43A8-2764-4D58-90B4-05EB5BC2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69FC5-AFCB-4C2D-9C61-85905D29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B1A02-CDFE-4206-8431-410B2483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816FF-593C-424E-B40C-D8C7EF08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18999-D4CD-4355-ADB2-69B8FA2F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1446E-B3E2-42C0-AF69-97E802BA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81B9F-D3CA-4175-8D47-274EB2C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74B14-CFE0-49DC-A9FB-6231C076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EBB4D-D4BF-4220-8D64-8A24E550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282E2-05D7-4723-B798-2EAF2A5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46B7-1C2C-45AD-AF60-17342530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90B70-529E-4A53-A456-B604B30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409E4-C841-4F7C-A005-14B6FDDE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AE0AE-F7DD-4145-904A-AAF3B827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CCF23-E199-446E-BAFF-276CCC1F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D9193-3EAE-44E0-9C10-0289771B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C9C4-93F2-48AF-9474-FE24FE9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4D2E-052D-486E-9889-EC743FD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3703-C387-4AF7-8550-A9AF320D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995A-C36C-437C-B612-4DDCD4B8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96B0-7F88-440C-85EF-40F58B5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F4D-7BC1-427B-9589-34A2C295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DF76-337D-4496-A070-B0CD13BC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5BA3-4F83-49AF-8465-DFCD40FF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BB8C-599C-4C88-9F2D-207776FB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A481-FE98-4010-8948-BF0D1FA0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3790-E562-4B96-ACC3-F2AF11D0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4EBA-C9F7-4536-A32F-54C7D3C7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0C31-7F0A-40F9-B203-D9F78112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F4D2-69FB-4F37-B1C8-7B26169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E1E8-A3E8-4BB6-A458-F4F1DB5B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2423-2B3B-49F5-AE63-6A63F148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DA4-53C0-4DAE-8D9E-41BD6E70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410F-0B38-4AB0-B734-F2C71AB5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981C-B039-4CB8-BFF2-136D093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51D5-6421-4D97-B4A1-B6C8616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BB8D-CBEB-47FE-B036-A08E145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614C-CE9A-4F1C-90DB-7F9BB3AA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2999-9F12-4C2F-9134-C6CAF316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7A01-19E8-4F8F-AC04-ADDEBADF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D44C-FE67-4048-9B6B-4E72D311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9AA0-3B5D-4208-B5F5-FE1A245A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2297-89B5-4331-86F5-1A686D4A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5D9-C695-4C32-B9A2-3AFCE447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0484-6051-4D0C-BEDF-6F447C8A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7B3F8-9E4B-4C4E-BFF6-EACBCCCD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3B365-F0FB-4625-AF8A-DB5B1410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E6D52-96C2-4E15-8FBD-F83C66E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DAC3-9C92-4B15-8E0F-307ADD8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A490-60D3-4BE2-9DDF-81CCCD7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8AEBD-9576-45A9-87A5-B1D445E0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FA15-457B-425B-8015-755E6845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5791-CD37-42B9-951A-1976890A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8D37-1416-42E4-B624-99F8B790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28E-7F8E-4DAB-B23C-3671EE53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B1493-01FE-464C-A1CA-6536FBE2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9D592-BEF5-4EBD-A153-C25F6E85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30292-D174-473C-B915-D585B3F3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8444F-582B-45C7-BC7D-F792AEAD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437C-5ACC-441A-81E6-175DBD28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2F38-C41E-4606-B8FC-6F79350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372D-B2ED-413A-950F-B7284280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691F5-94B9-48BE-90DA-F1EAFFB7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F5FB2-2666-4253-B4E8-32FF60CE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6992-6B91-42D7-8399-2D7AB852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4CD-3B32-4D20-BFD7-96DBD3B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562FF-9FC7-4737-A6C8-3E94A30D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6797-FF09-46BD-859C-B0EB2330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067C-1500-4C3F-AB14-FEA2154B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90B8-4F4C-4572-B768-1B0889FF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4CC2-C60E-4820-90EE-67356B7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1D4F9-D7A4-4354-85CF-489EC1C8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97C39-1A2E-47A0-840A-3EC8091F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D66B0-B067-482D-870E-C2AE91AF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89CB7-C70E-4C20-8FA7-089C50B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CD9D8-5279-4C6D-9D73-C7CFD640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B22-C254-4B2E-BBB5-385BD808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F194E-B40B-432F-AFDE-83A4AC7D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5F5C9-50C9-4590-B544-76D9B07E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79753-9775-49BF-8560-5904E348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BA031-802A-4F9B-8022-FB47E332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6679-BA48-49A1-AC6C-5575E9F7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A685-E956-4B39-85D8-6E195B49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AA79A-4F3A-4A3F-B559-5777B8BC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AA75-B06A-4CBF-825C-625C845F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B0F6C-7444-4DE1-B11B-64D758EA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C0C9-7C5B-46FB-9468-2C966DF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51E-57D9-409F-A1A4-7309EC48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656FB-795D-4D4D-8337-96681EA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CAE35-ADBC-4B23-B294-CB345B4C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980A2-5976-4D54-A491-61E59BFE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CA07-AA98-47AB-9911-60CDF1E9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1973-A077-4A81-9678-DFCE8072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FB529-3958-4F39-94C0-10F9D068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99C38-5D05-43CE-A699-378A0978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53484-6A75-4765-B82A-397EA34F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A326C-A06A-453A-9B30-D91FFD14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08FAC-4DB3-4CB9-B324-C688F76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AF0-97D2-443C-98DA-24A80D1E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C37A5-668C-4E07-9FFA-0A49EE26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C8E6-844F-4CF6-9E1A-B6EC43A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6084-D843-4571-99EE-4F0600D8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64117-2815-4A69-AABF-9BB526AA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296BD-F8DD-4A06-B553-CCF6713F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5D611-F0CC-4763-8684-23A3901F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DDF74-084E-4C6F-BB84-B796A7F9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EDAC0-F415-4DAA-9471-C8CDB5A5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1F69F-5DFF-4DC3-B970-2AA92743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2FF21-D088-4BE8-9BF8-E55415DA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764D-6226-432D-8E30-0E7DAF8B0A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1D60-6464-47CC-A96B-E44066F5FF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5A39-E254-49B0-B21C-2602FC0217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61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C97B-10CB-4217-9D60-977933BA9310}" type="slidenum">
              <a:rPr b="0" lang="en-US" sz="1000" spc="-1" strike="noStrike">
                <a:solidFill>
                  <a:srgbClr val="31612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B432-839D-4F12-B233-7948C2591F78}" type="slidenum">
              <a:rPr b="0" lang="en-US" sz="1000" spc="-1" strike="noStrike">
                <a:solidFill>
                  <a:srgbClr val="c4ddc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0C00-3058-4F2F-AE04-325F61E053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AA15-9226-4A99-BC94-DFAAA0BBCD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220-41ED-4687-8B0B-C6CACD810B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E4EA-29D6-4CD0-BB8D-6B3F62FA19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5388-C32B-47C9-A1A1-C42324FDC3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4A85-5AB5-4157-8D14-94AB6FBE72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31612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31612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2417-82AD-49CC-986B-9898A73DBD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6968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4ddc3"/>
                </a:solidFill>
                <a:latin typeface="Arial Black"/>
              </a:rPr>
              <a:t>Area and </a:t>
            </a:r>
            <a:r>
              <a:rPr b="1" lang="en-US" sz="9000" spc="-1" strike="noStrike">
                <a:solidFill>
                  <a:srgbClr val="c4ddc3"/>
                </a:solidFill>
                <a:latin typeface="Arial Black"/>
              </a:rPr>
              <a:t>Perimeter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863680" y="5181480"/>
            <a:ext cx="2814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612d"/>
                </a:solidFill>
                <a:latin typeface="Times New Roman"/>
              </a:rPr>
              <a:t>By Christine Berg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612d"/>
                </a:solidFill>
                <a:latin typeface="Times New Roman"/>
              </a:rPr>
              <a:t>Edited by V T Hamilton</a:t>
            </a:r>
            <a:endParaRPr b="0" lang="en-US" sz="2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rectangle becomes a parallelogram so the formula is the similar to a rectangle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A=bh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1612d"/>
                </a:solidFill>
                <a:latin typeface="Arial"/>
              </a:rPr>
              <a:t>The area of a triangle is one half of the length of the base times the height since a triangle is half of a parallelogram.</a:t>
            </a:r>
            <a:endParaRPr b="0" lang="en-US" sz="5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Tri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30" name="AutoShape 4"/>
          <p:cNvSpPr/>
          <p:nvPr/>
        </p:nvSpPr>
        <p:spPr>
          <a:xfrm rot="10771200">
            <a:off x="1980720" y="3276720"/>
            <a:ext cx="1905120" cy="1828800"/>
          </a:xfrm>
          <a:prstGeom prst="rtTriangle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1905120" y="3276720"/>
            <a:ext cx="1904760" cy="1828800"/>
          </a:xfrm>
          <a:prstGeom prst="rtTriangle">
            <a:avLst/>
          </a:prstGeom>
          <a:solidFill>
            <a:srgbClr val="8b1003"/>
          </a:solidFill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372680" y="3962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1523880" y="434340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 flipV="1">
            <a:off x="1523880" y="3200040"/>
            <a:ext cx="0" cy="76212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 flipH="1" flipV="1">
            <a:off x="1904760" y="5253840"/>
            <a:ext cx="609480" cy="504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6" name="Line 15"/>
          <p:cNvSpPr/>
          <p:nvPr/>
        </p:nvSpPr>
        <p:spPr>
          <a:xfrm>
            <a:off x="3048120" y="5257800"/>
            <a:ext cx="761760" cy="0"/>
          </a:xfrm>
          <a:prstGeom prst="line">
            <a:avLst/>
          </a:prstGeom>
          <a:ln w="9360">
            <a:solidFill>
              <a:srgbClr val="316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2515680" y="5105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4in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5318280" y="3032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4114800" y="1600200"/>
            <a:ext cx="4822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square is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4 times 4 or 16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rea of the </a:t>
            </a:r>
            <a:r>
              <a:rPr b="0" lang="en-US" sz="4000" spc="-1" strike="noStrike">
                <a:solidFill>
                  <a:srgbClr val="8b1003"/>
                </a:solidFill>
                <a:latin typeface="Times New Roman"/>
              </a:rPr>
              <a:t>triangle</a:t>
            </a: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 is one-half 16, or 8 sq.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b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1/2 (4)(4)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Times New Roman"/>
              </a:rPr>
              <a:t>A = 8 sq. in.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40" name="TextBox 14"/>
          <p:cNvSpPr/>
          <p:nvPr/>
        </p:nvSpPr>
        <p:spPr>
          <a:xfrm>
            <a:off x="38088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612d"/>
                </a:solidFill>
                <a:latin typeface="Arial"/>
              </a:rPr>
              <a:t>Jc-schools.net</a:t>
            </a:r>
            <a:endParaRPr b="0" lang="en-US" sz="18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erimeter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sum of the   lengths of </a:t>
            </a:r>
            <a:r>
              <a:rPr b="0" lang="en-US" sz="6500" spc="-1" strike="noStrike" u="sng">
                <a:solidFill>
                  <a:srgbClr val="31612d"/>
                </a:solidFill>
                <a:uFillTx/>
                <a:latin typeface="Arial"/>
              </a:rPr>
              <a:t>all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sides of the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he number of  square units inside a figure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61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Calculating </a:t>
            </a:r>
            <a:br>
              <a:rPr sz="9000"/>
            </a:br>
            <a:r>
              <a:rPr b="1" lang="en-US" sz="9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9000" spc="-1" strike="noStrike">
              <a:solidFill>
                <a:srgbClr val="31612d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Area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bbreviations: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A = Area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l=leng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w=width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b = base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612d"/>
                </a:solidFill>
                <a:latin typeface="Arial"/>
              </a:rPr>
              <a:t>h = height </a:t>
            </a:r>
            <a:endParaRPr b="0" lang="en-US" sz="4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612d"/>
                </a:solidFill>
                <a:latin typeface="Arial Black"/>
              </a:rPr>
              <a:t>AREA MEASUREMENT</a:t>
            </a:r>
            <a:endParaRPr b="1" lang="en-US" sz="44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We measure area in square inches.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161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612d"/>
                </a:solidFill>
                <a:latin typeface="Arial"/>
              </a:rPr>
              <a:t>Follow up each of your measurements with the following abbreviation:</a:t>
            </a: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1612d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1612d"/>
                </a:solidFill>
                <a:latin typeface="Arial"/>
              </a:rPr>
              <a:t>25 </a:t>
            </a: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Sq. in </a:t>
            </a:r>
            <a:endParaRPr b="0" lang="en-US" sz="5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To find the area multiply the length times the width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Rectangle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1612d"/>
                </a:solidFill>
                <a:latin typeface="Arial"/>
              </a:rPr>
              <a:t>A = lw</a:t>
            </a:r>
            <a:endParaRPr b="0" lang="en-US" sz="100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320" y="91800"/>
            <a:ext cx="90676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10301"/>
                </a:solidFill>
                <a:latin typeface="Arial Black"/>
              </a:rPr>
              <a:t>Parallelogram</a:t>
            </a:r>
            <a:endParaRPr b="1" lang="en-US" sz="7000" spc="-1" strike="noStrike">
              <a:solidFill>
                <a:srgbClr val="31612d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9360">
            <a:solidFill>
              <a:srgbClr val="01030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Draw a rectangle on graph paper. Cut off a </a:t>
            </a:r>
            <a:r>
              <a:rPr b="0" lang="en-US" sz="5500" spc="-1" strike="noStrike">
                <a:solidFill>
                  <a:srgbClr val="31612d"/>
                </a:solidFill>
                <a:latin typeface="Arial"/>
              </a:rPr>
              <a:t>triangle</a:t>
            </a:r>
            <a:r>
              <a:rPr b="0" lang="en-US" sz="6500" spc="-1" strike="noStrike">
                <a:solidFill>
                  <a:srgbClr val="31612d"/>
                </a:solidFill>
                <a:latin typeface="Arial"/>
              </a:rPr>
              <a:t> on one side and add it to the other. </a:t>
            </a: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8380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3581280" y="5791320"/>
            <a:ext cx="1905120" cy="914400"/>
          </a:xfrm>
          <a:prstGeom prst="rect">
            <a:avLst/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 flipV="1">
            <a:off x="3581280" y="5791320"/>
            <a:ext cx="60984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 flipV="1">
            <a:off x="5486400" y="5791320"/>
            <a:ext cx="609480" cy="914400"/>
          </a:xfrm>
          <a:prstGeom prst="line">
            <a:avLst/>
          </a:prstGeom>
          <a:ln w="9360">
            <a:solidFill>
              <a:srgbClr val="8b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1" name="AutoShape 13"/>
          <p:cNvSpPr/>
          <p:nvPr/>
        </p:nvSpPr>
        <p:spPr>
          <a:xfrm>
            <a:off x="6324480" y="5791320"/>
            <a:ext cx="2514600" cy="914400"/>
          </a:xfrm>
          <a:prstGeom prst="parallelogram">
            <a:avLst>
              <a:gd name="adj" fmla="val 68750"/>
            </a:avLst>
          </a:prstGeom>
          <a:solidFill>
            <a:srgbClr val="4a8a5b"/>
          </a:solidFill>
          <a:ln w="9360">
            <a:solidFill>
              <a:srgbClr val="316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95440" y="539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32785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66312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612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1612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2-17T17:17:42Z</dcterms:created>
  <dc:creator>NNPS</dc:creator>
  <dc:description/>
  <dc:language>en-US</dc:language>
  <cp:lastModifiedBy>bethany.jackson</cp:lastModifiedBy>
  <cp:lastPrinted>2012-02-01T21:38:11Z</cp:lastPrinted>
  <dcterms:modified xsi:type="dcterms:W3CDTF">2012-03-10T15:55:47Z</dcterms:modified>
  <cp:revision>10</cp:revision>
  <dc:subject/>
  <dc:title>Area and Perimeter</dc:title>
</cp:coreProperties>
</file>